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1F5AB-7959-4C1E-A213-48CF93D3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4DB09-C874-4FCE-9D3C-464C387D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B562D-8ED8-4ADB-BDB0-963620BB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66F9B-02FD-4926-AA3B-BD2A2B58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D662-11C2-46E0-BE50-3DD1D27F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02C6-BD12-42C2-832D-35C3D20B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758C-CF16-44C8-A105-A49788F1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BD0B-6B2E-41EF-9857-8C0F66C7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0A20-0226-4168-B48A-5AFCDDBA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3983-24A7-4325-9823-B4B6DF04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242E-53AE-4D08-A904-A5DAAD18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A9E02-1781-4285-AB27-0B256EBC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DCDD-8DAB-4FF4-8C48-F4D281DC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9D85-5412-4C64-8F59-D1C130C0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F904-19AD-4F30-B8AB-5598D933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ADA0-5974-4C7E-B5EA-92F80CDD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B31B-C441-4B36-9974-5AFA11AE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91618-4AD0-4E6E-A2E6-F81AD0E8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E4E91-1061-4682-AC6D-56CC82D6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05A95-3653-4D9D-97AB-C4BDE1CC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5E0D-D23A-4E35-AB4C-A655EFCA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12BAB-783A-4C88-8B9D-B23A1D08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5E983-88AC-4AB8-A71B-5D6EF627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1B95B-7DE6-4DED-98DD-418CBDB2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D826-9E85-462B-81B7-57410B9339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1FC6-600E-4C46-8093-ACCA7F0500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ivate Pilot Certificat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eckride T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 ahe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of the flight planning (except for the weather) the day before the ex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professional from beginning to e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’re unsure of an instruction, a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ke your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cal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r instructor signed you off; you’re prepa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Seat Airplane ~$90/hr (60hr = $540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ructor ~$50/hr (35hr = $175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iner ~$35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ritten Exam ~$8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plies ~$4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tal: $798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1 flight hours @ $85/hr ($433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0.5 hours instruction @ $60/hr ($183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eckride ($35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lies (~$4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ritten Exam ($8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: $699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You Should Bu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ads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ew book/practice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ts, AF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 B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 compu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el te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leim kit has most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5179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aining in Bost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ree main airp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dfor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n get very busy with je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d small aircraft traffi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reat practice talking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 a tow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wr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ver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blic Transpor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 runs to Bedford from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ewife (Red Line to #76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27644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s of Training in Bost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sy airsp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ts of communications practi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ts of practice sharing airsp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ts of airports for cross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train during the school y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 of Training in Bost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sy airsp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 flights may be delayed on the ground or in the traffic patter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ns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ther locales will have less expensive aircraf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gges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a computer backup of your logb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 lots of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d a pilot friend to ask if you don’t want to ask your instruc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pare as much as possible before the lesson slot beg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ather brief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ight Plan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flight (if plane is availabl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Sugges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mchair fly before and after each flig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member what you did well, and think about how to impro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you’re tired or not feeling well, take a brea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’t be afraid to cancel a less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sten to liveatc.n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t more familiar with ATC and airport procedu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r and critique yourself on the radi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y of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more you fly, the less time it takes to get your license (calendar time and logged flight tim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estion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1197000"/>
            <a:ext cx="82296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You Can 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y in VFR weather con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y at any time, day or n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y without an instructor approving your flightpl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y into/out of any civil U.S. Air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ry passeng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ssengers can pay up to their equal share of the flight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y Fl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419120"/>
            <a:ext cx="761976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quirements on the Grou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Class Medical Certific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ired for your first sol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t this early in your training or before you beg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lid for 3 yea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0% or better on written ex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ke the exam as early as you c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 cannot be taken without an instructor’s write-off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quirements in the Ai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least 40 hours of flight time (50-70 averag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 hours with instruc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hours cross count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flight over 100nm start to finis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hours n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hours instru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 hours sol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hours cross count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flight over 150nm with three landing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33440" y="2666880"/>
            <a:ext cx="5753160" cy="3829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4495680" cy="2992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956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Typical Les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hour blo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hour of maneuvers/skills practice near air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ep tur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 flight/stal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strument fly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ergency procedur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½ hour of pattern wo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erent types of takeoffs/landing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½ hour to park plane, debrief less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ther lessons may be ground school or longer flights (ex: cross countr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You’ll Fl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Seater: Piper Tomahawk, Cessna 15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 Seater: Piper Warrior, Cessna 17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19320" y="3011400"/>
            <a:ext cx="57909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heckr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par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al Exam cover flight planning, “what if” scenarios, aircraft syst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ight Exam is just what it sounds li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art a cross-country fl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sic Flight Maneuv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tern wo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st pass every pa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22:00:51Z</dcterms:created>
  <dc:creator>Jeremy Katz</dc:creator>
  <dc:description/>
  <dc:language>en-US</dc:language>
  <cp:lastModifiedBy>Jeremy Katz</cp:lastModifiedBy>
  <dcterms:modified xsi:type="dcterms:W3CDTF">2008-03-18T23:35:15Z</dcterms:modified>
  <cp:revision>23</cp:revision>
  <dc:subject/>
  <dc:title>Private Pilot Certificate</dc:title>
</cp:coreProperties>
</file>